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1B08-69AF-4B81-9996-88A3F050C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A60D-D1E5-415D-BCD1-AAF4BDC11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61DE-1A72-4BA4-ACFE-1EB5017AF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414A-39C4-4FC6-9A79-B9E3934A8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D1CD-F879-42C0-95C0-405303905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9AD8-38DA-4310-AAA6-3A39CD54C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50E6-0E6B-4C45-BFBF-FDF069E2F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7A5E-CBC7-4C61-8965-8ED5D5AF5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7381-7747-4154-8F6C-0C38681F7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D73F-4850-40EA-976D-F0DCCE19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03FA-F696-4444-8599-1EE95C3B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F0D0-82F7-4263-BD73-991EB5DF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DA507-A829-4833-A696-75CE808EE38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:Practice 1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8.1 DEPONENT 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214200" y="1214280"/>
            <a:ext cx="5572080" cy="51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arse the following (all are deponent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ἐρχοντα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ἐλογιζετ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συνηρχομη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ἀρνησαμενο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δεξετα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ἁπτο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εἰσερχομενο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ἐργαζομενο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ἀσπαζεσθ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3000240" y="20080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sent Indicative 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Pl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8"/>
          <p:cNvSpPr/>
          <p:nvPr/>
        </p:nvSpPr>
        <p:spPr>
          <a:xfrm>
            <a:off x="3000240" y="247500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erfect Indicative 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ing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9"/>
          <p:cNvSpPr/>
          <p:nvPr/>
        </p:nvSpPr>
        <p:spPr>
          <a:xfrm>
            <a:off x="3000240" y="296856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erfect Indicative 1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ing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0"/>
          <p:cNvSpPr/>
          <p:nvPr/>
        </p:nvSpPr>
        <p:spPr>
          <a:xfrm>
            <a:off x="3000240" y="345276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orist Participle Singular (masculine nomina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1"/>
          <p:cNvSpPr/>
          <p:nvPr/>
        </p:nvSpPr>
        <p:spPr>
          <a:xfrm>
            <a:off x="3000240" y="391176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ture Indicative 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ing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2"/>
          <p:cNvSpPr/>
          <p:nvPr/>
        </p:nvSpPr>
        <p:spPr>
          <a:xfrm>
            <a:off x="3000240" y="439740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sent Imperative 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ing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3"/>
          <p:cNvSpPr/>
          <p:nvPr/>
        </p:nvSpPr>
        <p:spPr>
          <a:xfrm>
            <a:off x="3000240" y="4900680"/>
            <a:ext cx="61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sent  Participle Plural (masculine nomina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4"/>
          <p:cNvSpPr/>
          <p:nvPr/>
        </p:nvSpPr>
        <p:spPr>
          <a:xfrm>
            <a:off x="3000240" y="538632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sent  Participle Singular (masculine nomina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5"/>
          <p:cNvSpPr/>
          <p:nvPr/>
        </p:nvSpPr>
        <p:spPr>
          <a:xfrm>
            <a:off x="3000240" y="586908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sent Indicative 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Plural or Present Imperative 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Plur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:Practice 2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8.1 DEPONENT 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214200" y="1643040"/>
            <a:ext cx="7643880" cy="35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t the following verbs in the form indica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βλεπω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sent 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Pl. Indic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ρχομαι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sent 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ing. Indic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δεχομαι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erfect 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Pl. Indic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ρχομαι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orist Masc. Nom. Pl. Partic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γραφω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ture 1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Pl. Indic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4"/>
          <p:cNvSpPr/>
          <p:nvPr/>
        </p:nvSpPr>
        <p:spPr>
          <a:xfrm>
            <a:off x="6500880" y="244008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βλεπουσι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6500880" y="298620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ρχετα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6497640" y="3544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δεχεσθ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6500880" y="409716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ρξαμενο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8"/>
          <p:cNvSpPr/>
          <p:nvPr/>
        </p:nvSpPr>
        <p:spPr>
          <a:xfrm>
            <a:off x="6500880" y="463248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γραψομε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:Practice 3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8.1 DEPONENT 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214200" y="1643040"/>
            <a:ext cx="7643880" cy="35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t the following verbs in the form indica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ξερχομαι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sent Imperative P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λογιζομαι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orist 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Pl. Indic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ειθω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sent Masc. Nom. Sing. Partic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ροσευχομαι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sent Infin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ρνεομαι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erfect 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Pl. Indic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6500880" y="244008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ξερχεσθ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6500880" y="298620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λογισαντ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6497640" y="3544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ειθ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"/>
          <p:cNvSpPr/>
          <p:nvPr/>
        </p:nvSpPr>
        <p:spPr>
          <a:xfrm>
            <a:off x="6500880" y="409716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ροσευχεσθα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6500880" y="463248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ἠρνουντ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:Practice 4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244440" y="1262160"/>
            <a:ext cx="5113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ρχονται εἰς το ἱερ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θελω ῥυσασθαι αὐτ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δεχεσθε τον λογ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κουσαντες ἠρξαντο ἐρχεσθα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περχομενος ἐδοξαζεν τον θε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μελλω προσευχεσθαι λεγων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4572000" y="1927080"/>
            <a:ext cx="45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are coming into the te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4572000" y="2676600"/>
            <a:ext cx="45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wish to rescue h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4572000" y="3392640"/>
            <a:ext cx="45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(pl.) are receiving the word. (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‘Receive the word!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4572000" y="4129200"/>
            <a:ext cx="45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they heard, they began to 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8"/>
          <p:cNvSpPr/>
          <p:nvPr/>
        </p:nvSpPr>
        <p:spPr>
          <a:xfrm>
            <a:off x="4572000" y="4854600"/>
            <a:ext cx="45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he was leaving, he was glorifying G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9"/>
          <p:cNvSpPr/>
          <p:nvPr/>
        </p:nvSpPr>
        <p:spPr>
          <a:xfrm>
            <a:off x="4572000" y="5589720"/>
            <a:ext cx="45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am about to pray, say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:Practice 5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244440" y="1262160"/>
            <a:ext cx="51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ἱ Ἰουδαιοι ἐξερχονται ἐ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"/>
          <p:cNvSpPr/>
          <p:nvPr/>
        </p:nvSpPr>
        <p:spPr>
          <a:xfrm>
            <a:off x="4572000" y="1927080"/>
            <a:ext cx="45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Jews are leaving the synagog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4572000" y="2787480"/>
            <a:ext cx="45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 not preach the good new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4572000" y="3414600"/>
            <a:ext cx="45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ἱ Φαρισαιοι ἠρξαντο  ἐργασασθαι (ἐργαζεσθα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4572000" y="464040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ἠσπαζοντο τους πονηρους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8"/>
          <p:cNvSpPr/>
          <p:nvPr/>
        </p:nvSpPr>
        <p:spPr>
          <a:xfrm>
            <a:off x="4572000" y="525312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ρνησομαι τηρειν τον νομον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9"/>
          <p:cNvSpPr/>
          <p:nvPr/>
        </p:nvSpPr>
        <p:spPr>
          <a:xfrm>
            <a:off x="4572000" y="586584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δει εἰσερχεσθαι εἰς το ἱερ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558360" y="2049480"/>
            <a:ext cx="214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ης συναγωγη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244440" y="2500200"/>
            <a:ext cx="4572000" cy="38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μη εὐαγγελιζεσθ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harisees began to work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were greeting the wicked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will refuse to keep the law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necessary to go into the te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:Practic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244440" y="77760"/>
            <a:ext cx="8628120" cy="10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8.2 IMPERFECT, FUTURE AND OTHER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MOODS OF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εἰμ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214200" y="1285920"/>
            <a:ext cx="6143760" cy="48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ἁγιαι ἠσαν αἱ ἐντολα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Δαυιδ ἠν μεγα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θελω εἰναι μετ’ αὐτω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φιλων θεον ἐσται μακαριο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ροσηυχετο ὠν ἁγιο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hildren were al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laves will be de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ing Jewish, we wish to en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ynagog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4303800" y="18032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ommandments were ho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4300560" y="23716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vid was gre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4300560" y="291456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wish to be with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7"/>
          <p:cNvSpPr/>
          <p:nvPr/>
        </p:nvSpPr>
        <p:spPr>
          <a:xfrm>
            <a:off x="4286160" y="3462480"/>
            <a:ext cx="514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one who loves God will be bles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8"/>
          <p:cNvSpPr/>
          <p:nvPr/>
        </p:nvSpPr>
        <p:spPr>
          <a:xfrm>
            <a:off x="4286160" y="401796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ing holy, he was pray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9"/>
          <p:cNvSpPr/>
          <p:nvPr/>
        </p:nvSpPr>
        <p:spPr>
          <a:xfrm>
            <a:off x="4286160" y="44658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α τεκνα ἠν μον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0"/>
          <p:cNvSpPr/>
          <p:nvPr/>
        </p:nvSpPr>
        <p:spPr>
          <a:xfrm>
            <a:off x="4286160" y="49212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νεκροι ἐσονται οἱ δουλο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1"/>
          <p:cNvSpPr/>
          <p:nvPr/>
        </p:nvSpPr>
        <p:spPr>
          <a:xfrm>
            <a:off x="4286160" y="5391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Ἰουδαιοι ὀντες θελομεν εἰσερχεσθαι εἰς την συναγωγη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:Practic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3"/>
          <p:cNvSpPr/>
          <p:nvPr/>
        </p:nvSpPr>
        <p:spPr>
          <a:xfrm>
            <a:off x="24444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8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NOUNS OF CONFUSING GENDE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71280" y="1211400"/>
            <a:ext cx="64296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ἱ μαθηται αὐτου ἐρχοντα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λεγεν τῳ Ἰουδᾳ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ἀδελφος δεξεται τον Ἰωαννη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ολλοι στρατιωται προσηρχοντο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5"/>
          <p:cNvSpPr/>
          <p:nvPr/>
        </p:nvSpPr>
        <p:spPr>
          <a:xfrm>
            <a:off x="4786200" y="211608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s disciples are going/com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6"/>
          <p:cNvSpPr/>
          <p:nvPr/>
        </p:nvSpPr>
        <p:spPr>
          <a:xfrm>
            <a:off x="4786200" y="272268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was speaking to Ju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7"/>
          <p:cNvSpPr/>
          <p:nvPr/>
        </p:nvSpPr>
        <p:spPr>
          <a:xfrm>
            <a:off x="4786200" y="333864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rother will receive Joh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8"/>
          <p:cNvSpPr/>
          <p:nvPr/>
        </p:nvSpPr>
        <p:spPr>
          <a:xfrm>
            <a:off x="4786200" y="3956040"/>
            <a:ext cx="478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soldiers w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proac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71280" y="4697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esus was proclaiming the w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0"/>
          <p:cNvSpPr/>
          <p:nvPr/>
        </p:nvSpPr>
        <p:spPr>
          <a:xfrm>
            <a:off x="4786200" y="4813200"/>
            <a:ext cx="385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Ἰησους ἐκηρυσσεν την ὁδ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125640" y="5548320"/>
            <a:ext cx="395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rophets were not ho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2"/>
          <p:cNvSpPr/>
          <p:nvPr/>
        </p:nvSpPr>
        <p:spPr>
          <a:xfrm>
            <a:off x="4786200" y="5640480"/>
            <a:ext cx="5072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ἱ προφηται οὐκ ἠσαν ἁγιο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22:20:43Z</dcterms:created>
  <dc:creator>Sarah</dc:creator>
  <dc:description/>
  <dc:language>en-US</dc:language>
  <cp:lastModifiedBy>Sarah</cp:lastModifiedBy>
  <dcterms:modified xsi:type="dcterms:W3CDTF">2009-08-09T10:45:44Z</dcterms:modified>
  <cp:revision>61</cp:revision>
  <dc:subject/>
  <dc:title>Slide 1</dc:title>
</cp:coreProperties>
</file>